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97FE-3268-4945-8C05-D650EE865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 (Leave this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RL doesn’t just exist by itself.” Possible pear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stage for the EL component, multiple intellige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You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ve NLR tools are applicable in a wide variety of mediums: EL instruction, whole class instruction, multiple instru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71E74-ADB7-44D9-8A09-3E86362AB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BD642-4E2E-4A5C-AE21-53E69016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7FE2-E6FB-46A5-B1C4-333E3EC7F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4DB55-6CBF-4A10-AC73-15E25DF65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E111D-D4EE-49B5-B48D-E3C179637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DCCB-F6F7-4CF4-8D89-D1B999A2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0D3F-1202-45F1-85E6-4B3AC3EA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9317-6DE4-4483-8719-4C400E76A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6EB82-5D66-49CC-A252-E6B360CBC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50A52-8BA5-482C-AA5A-1BC30FDB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EC85-0653-485E-92F2-85ADE1E5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223A-E219-4ED3-92BB-440E5C279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CAA1-12D4-4709-B44E-64225D016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69"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2"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5"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88" name="" descr=""/>
          <p:cNvPicPr/>
          <p:nvPr/>
        </p:nvPicPr>
        <p:blipFill>
          <a:blip r:embed="rId1"/>
          <a:stretch/>
        </p:blipFill>
        <p:spPr>
          <a:xfrm>
            <a:off x="3733920" y="1600200"/>
            <a:ext cx="4994280" cy="4495680"/>
          </a:xfrm>
          <a:prstGeom prst="rect">
            <a:avLst/>
          </a:prstGeom>
          <a:ln w="0">
            <a:noFill/>
          </a:ln>
        </p:spPr>
      </p:pic>
      <p:pic>
        <p:nvPicPr>
          <p:cNvPr id="89"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92" name="" descr=""/>
          <p:cNvPicPr/>
          <p:nvPr/>
        </p:nvPicPr>
        <p:blipFill>
          <a:blip r:embed="rId1"/>
          <a:stretch/>
        </p:blipFill>
        <p:spPr>
          <a:xfrm>
            <a:off x="4879800" y="1523880"/>
            <a:ext cx="343728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p:txBody>
      </p:sp>
      <p:pic>
        <p:nvPicPr>
          <p:cNvPr id="95"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685800" y="1447920"/>
            <a:ext cx="792468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p:txBody>
      </p:sp>
      <p:pic>
        <p:nvPicPr>
          <p:cNvPr id="98"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00"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how often do you have to do th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are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 diff aptitud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ur EL population is growing.”</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6" dur="20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Organizer Again</a:t>
            </a:r>
            <a:endParaRPr b="0" lang="en-US" sz="4400" spc="-1" strike="noStrike">
              <a:solidFill>
                <a:srgbClr val="000000"/>
              </a:solidFill>
              <a:latin typeface="Arial"/>
            </a:endParaRPr>
          </a:p>
        </p:txBody>
      </p:sp>
      <p:pic>
        <p:nvPicPr>
          <p:cNvPr id="108"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st 2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 </a:t>
            </a:r>
            <a:r>
              <a:rPr b="0" i="1"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0"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rls of Wisdo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 dur="2000"/>
                                        <p:tgtEl>
                                          <p:spTgt spid="62">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2000"/>
                                        <p:tgtEl>
                                          <p:spTgt spid="61"/>
                                        </p:tgtEl>
                                      </p:cBhvr>
                                    </p:animEffect>
                                    <p:set>
                                      <p:cBhvr>
                                        <p:cTn id="12"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3"/>
                                        </p:tgtEl>
                                        <p:attrNameLst>
                                          <p:attrName>style.visibility</p:attrName>
                                        </p:attrNameLst>
                                      </p:cBhvr>
                                      <p:to>
                                        <p:strVal val="visible"/>
                                      </p:to>
                                    </p:set>
                                    <p:animEffect filter="fade" transition="in">
                                      <p:cBhvr additive="repl">
                                        <p:cTn id="1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66"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ard.pope</cp:lastModifiedBy>
  <dcterms:modified xsi:type="dcterms:W3CDTF">2009-03-09T21:12:39Z</dcterms:modified>
  <cp:revision>21</cp:revision>
  <dc:subject/>
  <dc:title>Nonlinguistic Representations</dc:title>
</cp:coreProperties>
</file>